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15E20-2D97-4F47-AFB1-0BF485F6A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48AD2-A9BC-4D3B-9E44-84F9D8975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B08BF-EDA0-4A83-B431-07DC92C5C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88181-8416-4BA9-AB86-CD8400FD6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87F9A-DCA3-4E96-A492-5785541B8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ED96D-8C76-48C9-9933-E887AD144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0199-FE3B-4E47-BB5A-A5B8FD109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7753B-0880-4440-8252-43B87A1DE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94D3B-2321-46F0-A1DC-EE1CE1561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A9A40-B400-4913-9788-72B8B9B67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1098E-5F55-4109-BC4D-B1A837935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F9CE3-C488-48B5-8864-D50AEA6A9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1FC38-BD07-4C4A-B3DA-174E01ED4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BEE45-F114-4F19-A089-38EBCDFCF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E477A-B187-4BBE-A90E-FC9348C83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C5B34-E670-4CA4-8DD5-645195888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F797D-58B1-4838-AE7C-1CAF89683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399A7-FE65-4D61-8058-FD41F6EABB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F812F9-45BE-4CAF-8B99-A435CD967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267EF2-6221-4C0A-9F94-A963A8CF7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4C429E-85CA-4EE5-BB97-3E80604B58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930C6-A899-42FE-8ACA-BA0092ACBD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38BCC-5F02-4B70-88F3-388201A3E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53E196-41B5-4911-B342-37FC7F5DFE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7C259-C4B3-4441-9340-5B6376009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50C2D-8C8B-4597-8BD8-1CC922DAB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54A67-1CA4-4AB4-8BDC-D4E50958B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8AED9-FE7E-4929-B93F-C744B7E14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B6F4A-5397-4DA6-982E-40A77FB0D9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D6559-6E85-445E-815B-12F91B309D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B0158-3246-4F3F-97F1-3B5D2AC328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CFD1E-51F5-4869-8541-AC903B62F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EBD46-4562-46A8-8A74-1BEBB4781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3DA84-DFBA-4334-8A4B-D5629E7A4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C5F63C-5E52-48C6-94A5-B83AA8FD2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CD957-275C-4318-96C6-7A1080FC7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12426-E96E-4F91-B979-1E405E820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005BE-86B5-446D-8A0A-59BA44022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4E13D-C343-4A2B-B185-D34FBF59F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DE773-A26C-498C-9E6B-31CE624DC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86AA1-8EAC-42E5-B068-52135BB6E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35718-F4CE-4E49-A121-42453481B7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59D5B9-905F-427F-90FB-9FD27D84D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0E3B-EAF0-4810-B92B-C3FD77D9E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F2280-4F04-4BCA-98A2-016FF8B65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113B1-EBD4-440C-975B-B0BA04E5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7CD0B-EFC3-49D2-86AE-17DE69C5F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A229-0F7E-4363-9A2D-8046BD9EF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1012-3D30-4AFA-80A1-478F7351E31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1801-6B94-4315-BF9D-5511ED62016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44E2-6256-4195-9D3C-02A82996376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2018-FBDA-4FED-BB82-70F19F52E94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Orthodontics</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6000"/>
          </a:bodyPr>
          <a:p>
            <a:pPr marL="261720" indent="-26172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rthodontics is a specialty of dentistry that is concerned with the study and treatment of malocclusions (improper bites), which may be a result of tooth irregularity, disproportionate jaw relationship or both. The word comes from the Greek words ortho meaning straight and odons meaning tooth. Orthodontic treatment can focus on dental displacement only, or can deal with the control and modification of facial growth. In the latter case it is better defined as dentofacial orthopedics. Orthodontic treatment can be carried out for purely aesthetic reasons – improving the general appearance of patients’ teeth and face for cosmetic reasons – but treatment is often prescribed for practical reasons, providing the patient with a functionally improved bite (occlusion). In diagnosis and treatment planning, the orthodontist must recognize the various characteristics of malocclusion and dentofacial deformity, define the nature of the problem, including the etiology if possible.</a:t>
            </a:r>
            <a:endParaRPr b="0" lang="en-US" sz="2000" spc="-1" strike="noStrike">
              <a:solidFill>
                <a:srgbClr val="000000"/>
              </a:solidFill>
              <a:latin typeface="Constantia"/>
            </a:endParaRPr>
          </a:p>
          <a:p>
            <a:pPr marL="261720" indent="-26172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est of the lesson can be found in the textbook “English in Dentistry” by Natasa Milosavljevic.</a:t>
            </a:r>
            <a:endParaRPr b="0" lang="en-US" sz="2000" spc="-1" strike="noStrike">
              <a:solidFill>
                <a:srgbClr val="000000"/>
              </a:solidFill>
              <a:latin typeface="Constantia"/>
            </a:endParaRPr>
          </a:p>
          <a:p>
            <a:pPr marL="261720" indent="-26172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locclus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ltibracke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dgea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ac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rud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u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sp</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act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ainer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ORTHODONTIC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EATMENT OF MALOCCLUS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VENTION OF MALOCCLUS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hat words can be derived from the following:</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tri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er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sis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tegoriz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termin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scrib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ibu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a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omplete the sentences by choosing either the gerund or bare infinitive:</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ke a point of…..............this important lesson. (learn/learn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don’t feel like……………..this medicine just now. (take/tak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had rather…………….at home. (stay/stay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hing can make Steven…………..his mind. (change/chang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uldn’t it be worth …………….greater attention to this problem. (pay/pay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would you have her………………do now? (do/do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can’t let this question………………here. (rest/rest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s no use……………..that all over again. (discuss/discussing)</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 </a:t>
            </a:r>
            <a:r>
              <a:rPr b="0" lang="en-US" sz="2800" spc="-1" strike="noStrike">
                <a:solidFill>
                  <a:srgbClr val="04617b"/>
                </a:solidFill>
                <a:latin typeface="Calibri"/>
              </a:rPr>
              <a:t>Put the verbs in brackets into the Present Perfect Continuous or Past Perfect Continuous Tense:</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study) anatomy for hours, so now I’m going to have a res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patient (smoke) for thirty years before the doctor told him that he had to quit doing i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do) his research for the last two years, but he hasn’t finished it ye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 (write) for hours when she remembered that she had an appointmen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parations for this scientific congress (go) on for some tim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work) on this important project since 200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were very tired; we (walk) for eight hours without resting.</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at book (lie) on the table for week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parts of the sentence in the right order:</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000" spc="-1" strike="noStrike">
                <a:solidFill>
                  <a:srgbClr val="000000"/>
                </a:solidFill>
                <a:latin typeface="Constantia"/>
              </a:rPr>
              <a:t>natural system/the body/against/disease/has/own/its/of/defenc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erstand/the patient/the risks/of/must/to/no treatment/be helpe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ter/diseases/spread/some/through/may b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treatment/this disease/if/on time/usually/is diagnosed/successful/i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physical skill/can be/relaxation/psychological/which/useful/overcoming/is/in/stres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764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краћи текст на енглески језик.</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1:42:27Z</dcterms:modified>
  <cp:revision>26</cp:revision>
  <dc:subject/>
  <dc:title>Slide 1</dc:title>
</cp:coreProperties>
</file>